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158413" cy="825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C64-123D-44C7-84A7-777296CF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91440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771440"/>
            <a:ext cx="91440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B34-4D8D-416B-93E3-4E8F59C9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7714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7714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6EC-647E-434A-8D06-1739A280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9256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9256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7714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7714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7714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379-C941-499A-BEBF-F7E02488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92564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594-E02F-40ED-BB10-0B38DC1D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93B-7024-442C-987B-8CD51CEC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E24-1C90-41C8-B522-F624A332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D2E-4DA2-40E1-8EC3-42E34DFC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29760"/>
            <a:ext cx="9144000" cy="63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2C1-7384-4790-9318-3E0F2075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7714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A10-E177-4431-902A-63563AFA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7714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297-07B5-4BF4-8800-428D4AE3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771440"/>
            <a:ext cx="91440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A4E-7D1A-4A4A-BD3E-AAF10DC2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92564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651440"/>
            <a:ext cx="23702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651440"/>
            <a:ext cx="32162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651440"/>
            <a:ext cx="23702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242B-6868-42C9-9531-BD9B83127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146320" y="114480"/>
            <a:ext cx="58672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 - 24"/>
              </a:rPr>
              <a:t>Once at the Supreme Court..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ourt_front_med[1]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730920" y="1473120"/>
            <a:ext cx="2214720" cy="2208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3360" y="851040"/>
            <a:ext cx="5511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Symbol - 24"/>
              </a:rPr>
              <a:t>·</a:t>
            </a:r>
            <a:r>
              <a:rPr b="0" lang="en-US" sz="2300" spc="-1" strike="noStrike">
                <a:solidFill>
                  <a:srgbClr val="ff0000"/>
                </a:solidFill>
                <a:latin typeface="Arial - 24"/>
              </a:rPr>
              <a:t>The person/group who wrote the "cert" becomes the petitioner of the cas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 - 24"/>
              </a:rPr>
              <a:t>·The person/group who is the opposing the "cert" becomes the respond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245200" y="977760"/>
            <a:ext cx="52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300"/>
                </a:solidFill>
                <a:latin typeface="Arial - 24"/>
              </a:rPr>
              <a:t>Petitioner vs. Respo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6320" y="2717640"/>
            <a:ext cx="5359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0082"/>
                </a:solidFill>
                <a:latin typeface="Symbol - 24"/>
              </a:rPr>
              <a:t>·</a:t>
            </a:r>
            <a:r>
              <a:rPr b="0" lang="en-US" sz="2400" spc="-1" strike="noStrike">
                <a:solidFill>
                  <a:srgbClr val="4b0082"/>
                </a:solidFill>
                <a:latin typeface="Arial - 24"/>
              </a:rPr>
              <a:t>Both sides issue </a:t>
            </a:r>
            <a:r>
              <a:rPr b="0" lang="en-US" sz="2400" spc="-1" strike="noStrike" u="sng">
                <a:solidFill>
                  <a:srgbClr val="4b0082"/>
                </a:solidFill>
                <a:uFillTx/>
                <a:latin typeface="Arial - 24"/>
              </a:rPr>
              <a:t>briefs</a:t>
            </a:r>
            <a:r>
              <a:rPr b="0" lang="en-US" sz="2400" spc="-1" strike="noStrike">
                <a:solidFill>
                  <a:srgbClr val="4b0082"/>
                </a:solidFill>
                <a:latin typeface="Arial - 24"/>
              </a:rPr>
              <a:t> detailing their positions in the case (additional groups may also file brief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0082"/>
                </a:solidFill>
                <a:latin typeface="Arial - 24"/>
              </a:rPr>
              <a:t>·Oral arguments are set (Oct - Ap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0082"/>
                </a:solidFill>
                <a:latin typeface="Arial - 24"/>
              </a:rPr>
              <a:t>·Both sides are given 30 minutes to present/answer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0082"/>
                </a:solidFill>
                <a:latin typeface="Arial - 24"/>
              </a:rPr>
              <a:t>·Petitioner goes first with the ability to hold time for "rebuttal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0082"/>
                </a:solidFill>
                <a:latin typeface="Arial - 24"/>
              </a:rPr>
              <a:t>·Rulings issued May and Sept 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156280" y="3873600"/>
            <a:ext cx="513072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300"/>
                </a:solidFill>
                <a:latin typeface="Arial - 24"/>
              </a:rPr>
              <a:t>Ruling is explanation for vot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300"/>
                </a:solidFill>
                <a:latin typeface="Arial - 24"/>
              </a:rPr>
              <a:t>Concurrent opinion gives other reasons for rul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300"/>
                </a:solidFill>
                <a:latin typeface="Arial - 24"/>
              </a:rPr>
              <a:t>Dissenting opinion is reasons against rul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300"/>
                </a:solidFill>
                <a:latin typeface="Arial - 24"/>
              </a:rPr>
              <a:t>If tie, previous ruling stands but is not bind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3289320" y="774720"/>
            <a:ext cx="487692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200" spc="-1" strike="noStrike">
                <a:solidFill>
                  <a:srgbClr val="000000"/>
                </a:solidFill>
                <a:latin typeface="Arial - 24"/>
              </a:rPr>
              <a:t>8</a:t>
            </a:r>
            <a:endParaRPr b="0" lang="en-US" sz="30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3657600" y="851040"/>
            <a:ext cx="436896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400" spc="-1" strike="noStrike">
                <a:solidFill>
                  <a:srgbClr val="ff0000"/>
                </a:solidFill>
                <a:latin typeface="Arial - 24"/>
              </a:rPr>
              <a:t>9</a:t>
            </a:r>
            <a:endParaRPr b="0" lang="en-US" sz="28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311560" y="812880"/>
            <a:ext cx="586728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00ff"/>
                </a:solidFill>
                <a:latin typeface="Arial - 24"/>
              </a:rPr>
              <a:t>14</a:t>
            </a:r>
            <a:endParaRPr b="0" lang="en-US" sz="29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311560" y="812880"/>
            <a:ext cx="586728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9300"/>
                </a:solidFill>
                <a:latin typeface="Arial - 24"/>
              </a:rPr>
              <a:t>10</a:t>
            </a:r>
            <a:endParaRPr b="0" lang="en-US" sz="29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143000" y="317520"/>
            <a:ext cx="8153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 - 24"/>
              </a:rPr>
              <a:t>How a case gets to the Supreme Court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ourt_front_med[1]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384880" y="1676520"/>
            <a:ext cx="4572000" cy="4559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3360" y="1015920"/>
            <a:ext cx="558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 - 24"/>
              </a:rPr>
              <a:t>·</a:t>
            </a: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Appeal from a State court (only 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it is a constitutional or federal iss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·Appeal from a Federal cou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·State vs. Stat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·State vs. Federal Government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3263760"/>
            <a:ext cx="81025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9300"/>
                </a:solidFill>
                <a:latin typeface="Arial - 24"/>
              </a:rPr>
              <a:t>PLU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14480" y="4127400"/>
            <a:ext cx="53337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b0082"/>
                </a:solidFill>
                <a:latin typeface="Symbol - 24"/>
              </a:rPr>
              <a:t>·</a:t>
            </a:r>
            <a:r>
              <a:rPr b="0" lang="en-US" sz="2300" spc="-1" strike="noStrike">
                <a:solidFill>
                  <a:srgbClr val="4b0082"/>
                </a:solidFill>
                <a:latin typeface="Arial - 24"/>
              </a:rPr>
              <a:t>A </a:t>
            </a:r>
            <a:r>
              <a:rPr b="0" lang="en-US" sz="2300" spc="-1" strike="noStrike" u="sng">
                <a:solidFill>
                  <a:srgbClr val="4b0082"/>
                </a:solidFill>
                <a:uFillTx/>
                <a:latin typeface="Arial - 24"/>
              </a:rPr>
              <a:t>writ of certiorari</a:t>
            </a:r>
            <a:r>
              <a:rPr b="0" lang="en-US" sz="2300" spc="-1" strike="noStrike">
                <a:solidFill>
                  <a:srgbClr val="4b0082"/>
                </a:solidFill>
                <a:latin typeface="Arial - 24"/>
              </a:rPr>
              <a:t> is written by either side (or both) in the cas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b0082"/>
                </a:solidFill>
                <a:latin typeface="Arial - 24"/>
              </a:rPr>
              <a:t>·At least four justices decide to      hear the case based on the "cert" during a </a:t>
            </a:r>
            <a:r>
              <a:rPr b="0" lang="en-US" sz="2300" spc="-1" strike="noStrike" u="sng">
                <a:solidFill>
                  <a:srgbClr val="4b0082"/>
                </a:solidFill>
                <a:uFillTx/>
                <a:latin typeface="Arial - 24"/>
              </a:rPr>
              <a:t>conferenc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657600" y="851040"/>
            <a:ext cx="215892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500" spc="-1" strike="noStrike">
                <a:solidFill>
                  <a:srgbClr val="ff0000"/>
                </a:solidFill>
                <a:latin typeface="Arial - 24"/>
              </a:rPr>
              <a:t>1</a:t>
            </a:r>
            <a:endParaRPr b="0" lang="en-US" sz="28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3530520" y="812880"/>
            <a:ext cx="586764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9300"/>
                </a:solidFill>
                <a:latin typeface="Arial - 24"/>
              </a:rPr>
              <a:t>2</a:t>
            </a:r>
            <a:endParaRPr b="0" lang="en-US" sz="29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505320" y="888840"/>
            <a:ext cx="58928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400" spc="-1" strike="noStrike">
                <a:solidFill>
                  <a:srgbClr val="0000ff"/>
                </a:solidFill>
                <a:latin typeface="Arial - 24"/>
              </a:rPr>
              <a:t>3</a:t>
            </a:r>
            <a:endParaRPr b="0" lang="en-US" sz="29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289320" y="774720"/>
            <a:ext cx="4876920" cy="46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100" spc="-1" strike="noStrike">
                <a:solidFill>
                  <a:srgbClr val="000000"/>
                </a:solidFill>
                <a:latin typeface="Arial - 24"/>
              </a:rPr>
              <a:t>4</a:t>
            </a:r>
            <a:endParaRPr b="0" lang="en-US" sz="30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657600" y="851040"/>
            <a:ext cx="436896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400" spc="-1" strike="noStrike">
                <a:solidFill>
                  <a:srgbClr val="ff0000"/>
                </a:solidFill>
                <a:latin typeface="Arial - 24"/>
              </a:rPr>
              <a:t>5</a:t>
            </a:r>
            <a:endParaRPr b="0" lang="en-US" sz="28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530520" y="812880"/>
            <a:ext cx="586764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300" spc="-1" strike="noStrike">
                <a:solidFill>
                  <a:srgbClr val="009300"/>
                </a:solidFill>
                <a:latin typeface="Arial - 24"/>
              </a:rPr>
              <a:t>6</a:t>
            </a:r>
            <a:endParaRPr b="0" lang="en-US" sz="29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3505320" y="888840"/>
            <a:ext cx="58928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400" spc="-1" strike="noStrike">
                <a:solidFill>
                  <a:srgbClr val="0000ff"/>
                </a:solidFill>
                <a:latin typeface="Arial - 24"/>
              </a:rPr>
              <a:t>7</a:t>
            </a:r>
            <a:endParaRPr b="0" lang="en-US" sz="29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8:33:51Z</dcterms:created>
  <dc:creator>Brent J. Freccia</dc:creator>
  <dc:description/>
  <dc:language>en-US</dc:language>
  <cp:lastModifiedBy>Brent J. Freccia</cp:lastModifiedBy>
  <dcterms:modified xsi:type="dcterms:W3CDTF">2010-01-26T18:33:54Z</dcterms:modified>
  <cp:revision>1</cp:revision>
  <dc:subject/>
  <dc:title>Slide 1</dc:title>
</cp:coreProperties>
</file>